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1A0-28F9-4226-B11B-E3E5BA80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86D-FFF6-4DAA-9917-B164E793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9DC-E10B-47E7-A07D-40D24E1E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3B0-7D7F-4FF4-9F90-6E144A85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21A-7C52-4DFE-A945-18D42378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BA6-2576-43A8-80F6-3BF6EF66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65D-558A-41F9-9177-7BE51468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748-AEC5-43A1-B215-24C83BA3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FC1-4515-4624-BD59-8300F87E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20D-E35E-4BAD-886D-2D2E1B9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F84-1812-4010-AB4B-C4F81CF2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C6D-D962-40DB-AE08-96F7B61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7C8B-7C90-49D5-8FE0-83F3A6D642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ltural Diversity of Cana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Visible Min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ible Minorities are ethnic groups within society who look different from the maj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2001, 32% of Toronto’s population were a part of a visible mino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ousands of Peopl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74" name="Down Arrow 4"/>
          <p:cNvSpPr/>
          <p:nvPr/>
        </p:nvSpPr>
        <p:spPr>
          <a:xfrm>
            <a:off x="0" y="907920"/>
            <a:ext cx="484200" cy="58896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768240" y="15955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35 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195640" y="19573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29 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ther Tong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r first language is the language you were first taught as a child and still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Ontario, Chinese is the most spo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nguage after English and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Saskatchewan a lot of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ak German or C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ian Culture s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thnic Distribution in Canada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ltural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hat are your cultural roo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here did your parents grow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Your grandpar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ur great grandpar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ltural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 most Canadians, the answer to at least one of those questions is likely to be ‘somewhere else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e are all either immigrants or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cendants of im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ultural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is a nation that prides itself on its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ultural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population is drawn from many cultural backgrounds, bringing a wid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ange of practices and bel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ulticul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Canada has an official policy of </a:t>
            </a:r>
            <a:r>
              <a:rPr b="1" lang="es-UY" sz="3200" spc="-1" strike="noStrike">
                <a:solidFill>
                  <a:srgbClr val="000000"/>
                </a:solidFill>
                <a:latin typeface="Arial"/>
              </a:rPr>
              <a:t>multicultu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ople are encouraged to retain their cultural heritage while also being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itted Cana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ulticul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4567320"/>
            <a:ext cx="4013280" cy="229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4013280" y="1544760"/>
            <a:ext cx="5046480" cy="302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4013280" y="4567320"/>
            <a:ext cx="51307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thnic Ori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thnic Origin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al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ian citizens- both those who were born here and those who came as immigrants and took Canadian citizenship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the same nationality but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 array of ethnic ori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pulation in Canada by Ethnic Ori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-6480" y="1596960"/>
            <a:ext cx="915696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Visible Min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173240"/>
            <a:ext cx="2668680" cy="268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3860640"/>
            <a:ext cx="2625840" cy="2997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5859360" y="1152360"/>
            <a:ext cx="3284640" cy="306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5859360" y="4205160"/>
            <a:ext cx="3291120" cy="2652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2600280" y="1173240"/>
            <a:ext cx="3259080" cy="2687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6"/>
          <a:stretch/>
        </p:blipFill>
        <p:spPr>
          <a:xfrm>
            <a:off x="2625840" y="3860640"/>
            <a:ext cx="3233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Jason</cp:lastModifiedBy>
  <dcterms:modified xsi:type="dcterms:W3CDTF">2010-11-19T15:17:44Z</dcterms:modified>
  <cp:revision>27</cp:revision>
  <dc:subject/>
  <dc:title>Diapositiva 1</dc:title>
</cp:coreProperties>
</file>